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FD0-F83C-4124-AA90-AD1111A7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D1E-8DE7-433A-8BAE-63845BA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A16-D4F9-4DD8-AB45-7D018D54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152-0CC2-4303-97D1-1CB8D7C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6743-0708-4DA9-A78B-3034E343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F7AC-18DD-4460-AEEF-69FDAB84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54F-D5F1-469C-A2AB-06F47A5E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391F-63E4-46C3-BD27-5618DA7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D59-71E3-4496-BA29-4A64F14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DE3-8536-4E15-92EE-03711B1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1DC-CE98-438F-9623-7C559D8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031-BA09-4662-8066-4C8BCEE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9D99-95F8-46DC-957E-3F4F831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757E-0F33-4EF6-915E-B55EAD0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8D4C-BF6F-4C0A-AEB6-FABAFE61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402-7F9B-48EB-9473-3E9A860B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D1CD-70FB-4C52-B744-D60F4376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918-E7F8-49C4-8B13-D1D06A3E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034-19B0-4FEF-B824-F144B22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85E-6DE2-4C76-A4F1-85B7EB8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7CD-E2B9-49B6-AA7F-97D9108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9A4-24C8-4B02-A5FB-6845268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FB0-3F4D-4CB5-9004-C8D6262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75E-667E-4530-911D-89DD546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29D-7A6D-42D5-B665-6D7A040A09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044-D28B-46EA-B24D-0606740CD8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КИ АГЕНСИ Каракетисике 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л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 (вариола конфлуенс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малеус – сакагија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-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(по Павловс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 (по Беклемише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ХАНИЗАМ  ОДР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ВА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  ПРИРОДНОГ 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 узр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ка у виду примарног, независног епизо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г проц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ниф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стн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ол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. донор                                                                                                  (рецепто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б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81080" y="25146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35268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.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37:03Z</dcterms:modified>
  <cp:revision>1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